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28D-4913-41CE-B9F8-A1A35740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2B-E629-46C7-922E-65FCEBA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0E3-2A95-4706-A03B-4B7DF763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992-11B1-4B24-A026-822DEBF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1E93-6FFA-4915-AEB9-D723C27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D56-A41E-4EFE-8F7B-7F301569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A34D-09EA-4A74-9A04-EFC9817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D3FB-8150-40A0-B588-2C9B15D8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A1F8-8AC5-4CB8-87FC-A025C892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31C6-9EBF-4CBD-80E1-4476A769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9B7-0B8D-4990-8551-7FD23C22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7CB-7F21-4C33-AA37-042E7501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61D-C9CD-4673-8BF4-75D6384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079-DEA7-4D0D-92F8-C929CF7E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F5F2-680A-4F93-A841-677430D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544-823B-4187-A2A4-18DA7761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D25-C6BA-48AC-8AB7-007E74E2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0C37-5A57-4EA9-B60F-D51E3225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B2AB-3FAD-4AF3-A7B1-14AB4A36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1BAB-15E3-4EA2-B2C4-BD7D4B5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8C23-6F3E-4949-9599-3E98189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3E92-3691-497A-802C-9DEDA05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3BC-B5C9-41CF-A535-F4473D7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DCBF-9033-4A34-9062-6FE9BD9F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3163-0DD0-422F-AC45-173F4BA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9DA1-2B1B-42B6-BC1C-ED163A0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3DBA-DDA2-4F5D-8787-1890922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CA3E-ED09-49C3-9981-9A562DD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D8F1-9B43-4847-8E0B-626ACDB3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067D-882D-4A54-819F-4C804572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0751-9C70-488A-962E-CDD46091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DDFCF-3ABE-4DF2-9D18-D868768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FDB4-4136-42BD-A5FC-F3FF46B5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9D0-6F51-4AA9-9EC0-83B9248E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D1A1-D6C3-4DCA-9327-92DF14BC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BECE-E965-4414-85BC-44D91F8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FD93-1295-4DF6-9307-4EC3C24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F9F7-F3AF-42D9-ABB1-4B62521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ACC2-6F2D-44D7-A39B-96B54C4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7466-F64B-44E5-B45F-153ED327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777C-7BA9-46A6-A960-12E278A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CC55-1DB1-4523-AF27-8354C068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A657-4D86-41A3-87F8-F05A2C22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2950-65B8-4EB6-9BAF-3821D931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803-1665-4FED-9BB8-95A74B87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2CEE-5922-4E7E-8209-99C8D62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561E-4A35-4F95-8ED6-AF8CB38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C5DC-0260-4902-87B2-B326FA03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DCA2-7CA4-4E78-9A0A-6E89BAD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E5E5-4EAD-4937-8EFD-D7726A7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E3FE-6C93-47DA-9B3E-3DE4723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F02C-59B9-471D-A041-47DAF2E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5125-45B5-4B3E-8E64-5D7C3ED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5AF2-E867-43BC-9F27-3698B30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F781-5483-4217-ABAC-9F61F442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5DB-0ED5-469C-9C86-9423C455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EDD6-08F8-4FF2-A941-8C4B8670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2D5AA-6CC5-437A-B65F-B81A8582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548E-0887-454B-9667-58E8F29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0D8FC-3846-4177-B39D-643F3657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3CE0-D2A1-4EA6-A32D-EA6245A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8548-02B8-44B6-A106-6A26DA8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7A17-BAD6-44CA-AA2F-96A25EE8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CBF6F-3F68-4BF6-8399-D3C3DE6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7121B-11D5-414F-AA9C-9D12339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0214-73FA-4892-B08E-7134FB9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289-5644-462F-A83F-097C6EA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EFC59-082D-4537-9F2D-1A734749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9DF3-3C3E-457E-B779-326E8CAE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0F3E-98D0-43ED-933A-12E5DE5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413-173C-4333-9C7B-92345E0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DED-1D90-4FB3-A010-EFAAA40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CB9-6B6C-4137-88A9-00B27FE5C33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029E-D13B-4323-872C-944374A2B7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EB9-9E62-48C2-A0EF-89B2B7A816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0F6-CF6A-4AA0-B489-D8EA7B35C6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C21-E9E6-4195-8F59-15C09C89D7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5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3CE-AB81-4EF5-89A0-A55D60FB23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Тема проек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06080" y="3733560"/>
            <a:ext cx="66373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ое за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блемный вопро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од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уемые материалы и интернет-ссыл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Your_Dream</cp:lastModifiedBy>
  <dcterms:modified xsi:type="dcterms:W3CDTF">2009-12-06T13:20:12Z</dcterms:modified>
  <cp:revision>62</cp:revision>
  <dc:subject/>
  <dc:title>Слайд 1</dc:title>
</cp:coreProperties>
</file>